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D82-D078-41BF-BACA-04938FB7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96A-278C-47FC-BD73-1B1FA7A6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F99-E9BE-4225-A069-E7553330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79A-0120-44A8-8855-94ED3876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D35-5919-44F6-976D-EB66AC19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9D1-28A8-4E06-9A1C-A44DBAEE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B058-C5FE-4B2D-98B5-043E43F1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A901-F81B-4356-8213-584C5A88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292-D39D-497F-BBA9-CE0E3DBB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9871-CA88-4C46-BEAE-C9CC8BB1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3AFB-2ADE-4D91-9F1B-E08A3832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515-F805-4C48-B29B-F9F418BF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123D-E432-4B77-973B-AC5695820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EECE’S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Zeus and Ganymede"/>
          <p:cNvPicPr/>
          <p:nvPr/>
        </p:nvPicPr>
        <p:blipFill>
          <a:blip r:embed="rId1"/>
          <a:stretch/>
        </p:blipFill>
        <p:spPr>
          <a:xfrm>
            <a:off x="2819520" y="1600200"/>
            <a:ext cx="334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76720" y="91440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ds controlled the world of nature and the human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3505320"/>
            <a:ext cx="5486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Myths and Lege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ebrate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gods’ role in creating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and causing natu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ell of the gods’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Athena Promachus"/>
          <p:cNvPicPr/>
          <p:nvPr/>
        </p:nvPicPr>
        <p:blipFill>
          <a:blip r:embed="rId1"/>
          <a:stretch/>
        </p:blipFill>
        <p:spPr>
          <a:xfrm>
            <a:off x="228600" y="762120"/>
            <a:ext cx="312588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7621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reek gods were part of a family and Zeus was the supreme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886120" cy="1939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2971800"/>
            <a:ext cx="5257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us – justice and 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eidon –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a – marri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s –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onysus – 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llo – light (sun), health, herding, prophe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8320" y="3048120"/>
            <a:ext cx="428292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457200"/>
            <a:ext cx="82296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s the Greeks worshipped their g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yed to them for things they 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ed the gods with animal sacri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sanctuaries where they could worship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honor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90920" y="3054240"/>
            <a:ext cx="39621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5:48:14Z</dcterms:created>
  <dc:creator>gehadde</dc:creator>
  <dc:description/>
  <dc:language>en-US</dc:language>
  <cp:lastModifiedBy>gehadde</cp:lastModifiedBy>
  <dcterms:modified xsi:type="dcterms:W3CDTF">2012-04-27T13:03:41Z</dcterms:modified>
  <cp:revision>18</cp:revision>
  <dc:subject/>
  <dc:title>WARM-UP: #4</dc:title>
</cp:coreProperties>
</file>